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3D3F-C12E-4C0D-AB2F-32F7E981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6F61-475D-4159-B121-FFCDBBCE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B0F4-CEFC-45D5-8779-7320BCCE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907D-665F-48C3-A9F2-5B969FCB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EAE-9664-43A5-846F-1CE7D8B1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134-9C94-4DE5-A453-0FDD1D77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492-61F7-4DD8-8488-D046481B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85C-CE27-4E9F-B57E-D99F90F1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3A5-898D-4CBF-A0EA-1FB16807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04D-17F5-426A-AE44-B95A776A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C85-CBB5-4C9C-BD52-AF12D6E7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C3A-C3A4-4A08-B94E-4597E95B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5E11-9C5B-41E8-B5D9-F29B3C9E4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1640" y="907920"/>
            <a:ext cx="4321440" cy="4897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1341360"/>
            <a:ext cx="3311280" cy="403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1700280"/>
            <a:ext cx="2447640" cy="3384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4080" y="996840"/>
            <a:ext cx="1721520" cy="3682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65m x H:6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14960" y="1709640"/>
            <a:ext cx="1721520" cy="368280"/>
          </a:xfrm>
          <a:prstGeom prst="rect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61m x H:6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451640" y="98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04000" y="9079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88000" y="134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50360" y="92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00720" y="1700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73960" y="1386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72680" y="1333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2240" y="2357280"/>
            <a:ext cx="1721520" cy="36828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57m x H:5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8160" y="54450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4920" y="5013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51640" y="46465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Fidu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1125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19162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256536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280" y="380844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T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400536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91440" y="5969160"/>
            <a:ext cx="30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aseline MEMPHYS 13/2/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 Cam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8:16:34Z</dcterms:created>
  <dc:creator>J.E Campagne</dc:creator>
  <dc:description/>
  <dc:language>en-US</dc:language>
  <cp:lastModifiedBy>J.E Campagne</cp:lastModifiedBy>
  <dcterms:modified xsi:type="dcterms:W3CDTF">2006-02-13T08:16:55Z</dcterms:modified>
  <cp:revision>1</cp:revision>
  <dc:subject/>
  <dc:title>Diapositive 1</dc:title>
</cp:coreProperties>
</file>